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80ADA-916B-406A-9432-061A58A34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AB5-97E3-4091-BF1E-5E751E3F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27F-8DF5-4D4C-97F3-19A32DFB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649-C108-4CA1-8FEC-41ECC819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0A0-DCA3-44AD-8B3D-0AC09E2B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6F33-B488-4C6F-B98E-3CF60EF6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8BA-D095-425D-8048-C59D8CC6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ABFF-20AE-4552-AA1C-6DBEDD95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47DE-D6E7-410B-BE14-E3EDCFA5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2DE-0DB6-463D-A876-031FA9E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888A-0EF8-4D08-9653-19D3F74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EE61-4983-45A1-82CC-560CCFFD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3CB-8CD8-4BB0-82C7-03AE1F6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880-49D0-451E-8421-82690CD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79A6-A34A-46FE-84F0-DE1A643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DF27-98A0-49E7-B102-68F78DD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6C0E-1E67-47C2-A806-C4C2ECB6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CECD-767D-444B-9CB2-934478A2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E76-6B6B-401F-A33D-C7A1D26B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CC5-5F9D-488C-84C9-A174F0F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017-B955-4D9D-B92F-5DF778A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CD6-3EDF-4362-B276-801D194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4AA-51A0-4944-AF07-1A28AE9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EAA-BD08-4B0D-9FA2-721D3E20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821-5DAC-41C6-A8B5-68EE3215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8640-A398-4261-B922-CC15962DEB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4340F-A075-4E67-8928-AF32CB292F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ee.celinuxforum.org/CelfPubWiki/ELC2009Presentations?action=AttachFile&amp;do=get&amp;target=flash-filesystems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linux.org/" TargetMode="External"/><Relationship Id="rId2" Type="http://schemas.openxmlformats.org/officeDocument/2006/relationships/hyperlink" Target="http://elinux.org/" TargetMode="External"/><Relationship Id="rId3" Type="http://schemas.openxmlformats.org/officeDocument/2006/relationships/hyperlink" Target="http://elinux.org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mbeddedlinuxconference.com/" TargetMode="External"/><Relationship Id="rId2" Type="http://schemas.openxmlformats.org/officeDocument/2006/relationships/hyperlink" Target="http://www.embeddedlinuxconference.com/" TargetMode="External"/><Relationship Id="rId3" Type="http://schemas.openxmlformats.org/officeDocument/2006/relationships/hyperlink" Target="http://www.embeddedlinuxconference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inux-mag.com/cache/7357/1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wn.net/Articles/29229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on CELF Proj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lash filesystem testing and compari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sting of different flash file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ad/write/boot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acted with Free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liminary results presented at 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tree.celinuxforum.org/CelfPubWiki/ELC2009Presentations?action=AttachFile&amp;do=get&amp;target=flash-filesystems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is continuing on automation of the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rectFB mainl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rectFB ‘Fusion’ needs support in Linux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ed with Dennis Kropp to mainline this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tt Mack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now in MAINTAINERS file as an embedded Linux mainta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oining David Woodhouse and Paul Gortm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pays for Matt to do miscellaneous development and advocacy for embedded Linux kernel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is a valuable contribution to the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evice Trees for AR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ce Trees is a mechanism to pass info from bootloader to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pported in X86 and P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f all platforms supported it, it could allow more uniform 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, allows for a single binary to run on multiple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currently a hot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pen Source DLNA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held DLNA summ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vember 2008 in the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provided DLNA hardware and specs to OSS develo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5452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te for embedded Linux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linux.org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for some technica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eds work in some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tes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inux.org working BOF at EL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Videos should be availabl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Europe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apan Linux Sympos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C 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embeddedlinuxconference.com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 200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noble,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15,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s notified – program looks goo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pan Linux Sympos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kyo,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ctober 21-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s Torvalds is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Summit scheduled for October 19-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eakers notified – program shaping 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2360" y="492120"/>
            <a:ext cx="7494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C 2010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urrent pla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ril 12-14 in San Francisco, CA,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-Located with Linux Foundation Collaboration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presentations should go out shor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Contract Work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Contract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_no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CK on TV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lash filesystem testing and compari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FB mainl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tt Mackall – maintaine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-tin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F contracted with Free-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 patches mainlined in Fall 2008 by Thomas Petazz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ent into 2.6.27 and some into 2.6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very many easy patches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ze reduction of remaining patches is not very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s it very hard to push them to mai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smem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information about system memory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portional Set Siz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SS), which accounts better for shared pages, and doesn’t lie, like R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visualization (ch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ten by Matt Mack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ed at ELC 2009 – is in goo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www.selenic.com/s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m_notif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ition to cgroup system to support notification to user-space on low memory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ches submitted to LKML but not really noticed by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 feedback was addressed, and new patch was submitted just last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, read-only 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s out-of-tree for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contracted author specifically to mainline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also contracted for some additional work on user-space utilities (mksquashf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Very good article 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linux-mag.com/cache/7357/1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MACK on TV Analys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Mandatory Access Control Kernel (SM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lined in 2.6.25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1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29229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ms good for embedded (low overhea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started project to evaluate TV us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ject 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ite paper completed this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show up on elinux wiki very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7T00:05:28Z</dcterms:modified>
  <cp:revision>19</cp:revision>
  <dc:subject/>
  <dc:title>スライド 1</dc:title>
</cp:coreProperties>
</file>